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AEDB-F2C0-48FD-B8B7-FB27B3E47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Heute spreche ich über kulturelle Vielfalt in den deutschsprachigen Länder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lfalt der Bevölkeru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B122-57F5-4917-AE77-C18B1EAFC0FD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 Bevölkerung von Deutschland ist mehr als achzig zwei Millio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1E1-8ED2-4EAA-A354-2E5292F0D884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 gibt viele europäische Leute in dem Deutschland leb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B91C-DE8F-4967-A225-14F28B0D49DD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eutschland versucht, Multikulturalismus anzunehmen, da es 3,5 Millionen Türken in Deutschland gib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294F-6D25-4F62-A5E9-35AE6C00FD7C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unnitisch Moslem ist die gemeinsamste muslimisch Bevölkerung in Deutsch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13A8-9CF4-43FF-BE03-992CDCA3ABA1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 Anzahl von Einwanderern in Deutschland vermehrt. Reine deutsche Bevölkerung nimmt 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3098-94EA-4D64-A2C7-8069E3A94BCF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Vielen deutschen Städten werden bei den Einwanderern beeinflus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F054-32F5-4AD1-A5F6-21CA280B40E2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 sind die Fra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0A40-3713-47FE-9E8C-09AE980EF334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 sind die Antwor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C886-76D9-435D-9114-BC7827B64408}" type="slidenum">
              <a:rPr b="0" lang="en-US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283-A863-49F4-9668-912F9F76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A41-350B-440C-82F8-C141EA64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BCF-2238-4304-9665-922013BF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845-B819-43D0-A331-AADCE871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28B5-42F2-4B24-8822-B110440F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423D-88E7-415C-AFB7-2949CE0E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3E8D-2481-4CDA-A1F7-7B4191C0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0DB-178D-4127-ACF4-FAD3CCF6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5AD7-5984-4167-80E9-5371E35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F99A-1813-4444-8143-6F614F1F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A0BE-6B7A-42AB-B87F-72915972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FC8-BE03-4C1B-BED8-ADEB30DD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6550-25D8-422B-9291-A66EB930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47CB-73A3-4151-94D5-72AD617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8105-F3E3-4733-A681-867C1452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B59F-8EB6-4FEE-93AA-4C2B6640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1089-35A3-40A2-A5A5-88DCB130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AEA-1733-4432-9AAF-427DBDA2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269-5F4C-4EDF-831E-33998938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D95-68DD-4CEE-9C40-A57B1674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3D4-73C1-48A8-9D1F-BF764DDF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991-9B1C-4BD6-B75B-538A38FF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5BA-CD61-4B4B-821F-5B776A3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647-DCC0-4816-8254-CEFF6084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3800"/>
                    <a:gd name="textAreaBottom" fmla="*/ 1244160 h 12438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0480"/>
                    <a:gd name="textAreaBottom" fmla="*/ 510840 h 5104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39E3-99BE-4D10-9ACC-14FC86987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840" y="56880"/>
              <a:ext cx="3623400" cy="6134760"/>
              <a:chOff x="5406840" y="56880"/>
              <a:chExt cx="3623400" cy="61347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8000" y="341280"/>
                <a:ext cx="2109600" cy="2354760"/>
              </a:xfrm>
              <a:custGeom>
                <a:avLst/>
                <a:gdLst>
                  <a:gd name="textAreaLeft" fmla="*/ 0 w 2109600"/>
                  <a:gd name="textAreaRight" fmla="*/ 2109960 w 2109600"/>
                  <a:gd name="textAreaTop" fmla="*/ -360 h 2354760"/>
                  <a:gd name="textAreaBottom" fmla="*/ 2354760 h 23547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5720" y="1959480"/>
                <a:ext cx="903600" cy="841320"/>
              </a:xfrm>
              <a:custGeom>
                <a:avLst/>
                <a:gdLst>
                  <a:gd name="textAreaLeft" fmla="*/ 0 w 903600"/>
                  <a:gd name="textAreaRight" fmla="*/ 903960 w 903600"/>
                  <a:gd name="textAreaTop" fmla="*/ -360 h 841320"/>
                  <a:gd name="textAreaBottom" fmla="*/ 841320 h 8413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8480" y="2584080"/>
                <a:ext cx="438120" cy="39420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-360 h 394200"/>
                  <a:gd name="textAreaBottom" fmla="*/ 394200 h 39420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3640" y="668160"/>
                <a:ext cx="387720" cy="54972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-360 h 549720"/>
                  <a:gd name="textAreaBottom" fmla="*/ 549720 h 5497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440" y="2646720"/>
                <a:ext cx="162720" cy="33120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331200"/>
                  <a:gd name="textAreaBottom" fmla="*/ 331200 h 33120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39120"/>
                <a:ext cx="189720" cy="1429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3640"/>
                <a:ext cx="522360" cy="326448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360 h 3264480"/>
                  <a:gd name="textAreaBottom" fmla="*/ 3265200 h 32644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94480"/>
              <a:ext cx="897840" cy="820080"/>
              <a:chOff x="5646240" y="294480"/>
              <a:chExt cx="897840" cy="820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782280"/>
                <a:ext cx="182160" cy="36180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6200"/>
                <a:ext cx="311400" cy="300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9672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7080"/>
              <a:ext cx="1059120" cy="833400"/>
              <a:chOff x="968760" y="5257080"/>
              <a:chExt cx="105912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1988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444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FEAE-D529-4CA3-AD40-C610F16EE737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COB_data_Germany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Cultural Diversity in German Speaking Countries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opulation Divers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orks Cite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83091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cording to: 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ll Wonders Hote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The population of Germany is more than 82 million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Germany is the most populous in the whole of Europe Union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3. There are about 2 million Turks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4. Other immigrants mainly come from Italy, Greece, Poland, Serbia, and Croatia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5. Germany is a home to the third-highest number of global migrants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File:COB data Germany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cording to: 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The Souther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Germany is trying to adopt “multiculturalism”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Multiculturalism: the idea that disparate peoples can "simply live side by side and live happily with each other“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3. Germany welcomes any immigrants especially the ones with high-tech skills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4. However, many politicians argue that Germany is bound to have Christian image of humanity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5. There are 3.5 million Muslims in Germany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4" descr="http://www.deutsche-islam-konferenz.de/SharedDocs/Bilder/EN/Integration/Grafiken/muslime-in-deutschland-en,property=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ccording to: 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Maps of World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There has been declining growth of German population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Migration has helped the country to maintain its technological and commercial advantage in Europe.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A majority of German population of foreign origin are from Turkey.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They are followed by the Italians, Greeks and the Serbs.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99"/>
                </a:solidFill>
                <a:latin typeface="Verdana"/>
              </a:rPr>
              <a:t>A large number of Asian immigrants like those from India and Sri-Lanka has settled in Germany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4" descr="http://www.foxnomad.com/wp-content/uploads/2010/01/german-turkish-fl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Quiz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Approximately, how many Turks are living in Germany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What is the advantage for having migrants in Germany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nswer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Two Mill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The migrants help Germany with labor since German population is declin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16:37:34Z</dcterms:created>
  <dc:creator>SCSadmin</dc:creator>
  <dc:description/>
  <dc:language>en-US</dc:language>
  <cp:lastModifiedBy>Rebecca</cp:lastModifiedBy>
  <dcterms:modified xsi:type="dcterms:W3CDTF">2011-10-19T17:14:03Z</dcterms:modified>
  <cp:revision>35</cp:revision>
  <dc:subject/>
  <dc:title>Cultural Diversity in German speaking countries</dc:title>
</cp:coreProperties>
</file>